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813F0-F223-4215-B886-ECD26EC6C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477BF-6AB2-4B14-9136-7F60EBA3B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42CDA-2F57-49D3-978A-9BB4E1198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3D54B-3A83-405D-9832-40F93B74D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CA09B-D26F-41CA-9B02-43DD8E24A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6917D-8E80-4F5B-A382-F80B05E5C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307BF-79E3-4203-881C-F7134A96D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E3E74-8DDD-405B-956F-D4F4C6576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5BA6D-D3E1-4A24-B5FF-8A0013BC2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7282D-5F44-4DD2-ADE2-610EABD24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E94FA-A64D-4E66-8EC7-9CFC0A101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807E8-C623-47A2-924F-C3D313A30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183EE-781F-4468-9ED3-777550341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F5C56-021C-4F12-A625-5E530359D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5E50F-3EA9-4BE8-AF5E-A26F3F2E4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498BA-CB04-483A-820F-1B2D1272B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EB87C-A6A9-4481-87BA-8FCCF3538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73A7A-FEB3-4552-9B60-69689E523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FD2A1-D44B-416B-8C33-65FDFA296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CF326-7F9F-40E7-9B78-D6D32F4A1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50C7B-42FE-4F4B-949A-C693AE241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DFF9C-3743-4316-83C5-8D1F4CF59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F6796-1B54-49B7-A4CB-068865764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24126-CFD8-496A-85E8-403379133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11D90-792F-4D19-ACB4-6EE9B81B1F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F0849-55D5-4796-B6C7-50142BFB80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1280"/>
            <a:ext cx="6400800" cy="17733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4-2 </a:t>
            </a:r>
            <a:r>
              <a:rPr b="0" lang="zh-CN" sz="4400" spc="-1" strike="noStrike">
                <a:solidFill>
                  <a:srgbClr val="ff0000"/>
                </a:solidFill>
                <a:latin typeface="굴림"/>
              </a:rPr>
              <a:t>일상생활과 일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115640" y="3886200"/>
            <a:ext cx="7056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상생활에서 ‘일’이 갖는 의미는 무엇일까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‘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’은 자본주의 사회의 경제활동과 어떤 차이가 있을까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실천적 관심의 세계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2276640"/>
            <a:ext cx="7696080" cy="32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생활세계는 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‘실천적 관심’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에 의해서 지배되는 세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에서 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‘</a:t>
            </a:r>
            <a:r>
              <a:rPr b="1" lang="zh-CN" sz="3200" spc="-1" strike="noStrike">
                <a:solidFill>
                  <a:srgbClr val="ff0000"/>
                </a:solidFill>
                <a:latin typeface="굴림"/>
              </a:rPr>
              <a:t>일’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은 특별한 의미를 갖는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이란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696080" cy="35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어떤 기획에 기초한 외부 세계에서의 행위로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체적인 운동을 통하여 기획된 사태를 일으키려는 의도를 특징으로 한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&gt;(Schutz, 1973: 212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단순한 생각의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숨겨진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실행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vs.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신체적인 운동을 요구하는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드러난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실행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일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vs.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경제활동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/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임금노동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재생산 노동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소비활동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55280" y="-3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아는 일 속에서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을 통하여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자신의 현재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과거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미래를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특정한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간 차원으로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통합한다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말하기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글쓰기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신체노동하기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책 읽기 등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신체운동을 통해 내적인 시간에서 외적 시간으로 전환이 이루어진다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외적인 공간과 시간 속에서 발생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일하는 자아만이 자신을 주체로서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그리고 현재형으로 경험하며 하나의 통일체로 실현한다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하는 행위를 통해 타인과 </a:t>
            </a:r>
            <a:r>
              <a:rPr b="1" lang="zh-CN" sz="3200" spc="-1" strike="noStrike">
                <a:solidFill>
                  <a:srgbClr val="ff0000"/>
                </a:solidFill>
                <a:latin typeface="굴림"/>
              </a:rPr>
              <a:t>소통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한다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소통은 사회적인 ‘일’을 수행하는 행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소통은 사유의 기호인 ‘표현적인 장’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하는 행위를 통해 일상세계의 서로 다른 </a:t>
            </a:r>
            <a:r>
              <a:rPr b="1" lang="zh-CN" sz="3200" spc="-1" strike="noStrike">
                <a:solidFill>
                  <a:srgbClr val="ff0000"/>
                </a:solidFill>
                <a:latin typeface="굴림"/>
              </a:rPr>
              <a:t>공간적인 전망을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 조직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내 신체의 지금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여기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공간 좌표의 중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&lt;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현재적인 도달거리 내의 세계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하는 자아의 온전한 흐름을 통해 일상에서 실천적으로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적합한 부분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을 발견하고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이것이 우리의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사유흐름의 형식과 내용을 결정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7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인간학적인 일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자본주의 사회의 경제활동으로 환원되지 않는 “일”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객관주의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에 대한 비판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1T01:23:53Z</dcterms:created>
  <dc:creator>Staff</dc:creator>
  <dc:description/>
  <dc:language>en-US</dc:language>
  <cp:lastModifiedBy>Staff</cp:lastModifiedBy>
  <dcterms:modified xsi:type="dcterms:W3CDTF">2009-03-23T05:54:27Z</dcterms:modified>
  <cp:revision>6</cp:revision>
  <dc:subject/>
  <dc:title>4-2 일상생활과 일</dc:title>
</cp:coreProperties>
</file>